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43E-8716-43B2-8FDE-86877330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319-281E-442A-B5A9-EEF5CB21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4F2-1CF7-47E2-8D81-655CEC0C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FCA-FC0F-4348-A6AE-23FCCB68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A50-A010-482D-AA90-1B71B30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5511-BDAC-4862-AC91-FD2E205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424B-B85E-46A0-AC81-34D0DDA2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CEA6-8A2F-479D-BAFB-A18640C5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C23-123C-4083-B566-FFF29BAE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727-BABE-4B6E-BA2F-EE2B1419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6706-0EA8-4796-863E-4C2162B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677-8B73-44F3-87E9-71ABCCDD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84D-D43B-4046-A548-358C93F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C333-033A-400F-94BA-B70B63A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0982-DAD7-4311-BF2F-C31FB70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E7E-A11F-4F18-99B1-91D54E76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BB3D-8EF8-4DDE-AB79-EC314E54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FD4-8E09-45C5-A1F2-60E2213B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75E-8FDD-481B-9A53-53E98A51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1C1-2091-4DD2-8709-016B1541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A03-BF97-4F55-9A59-43D7630D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008-5DBB-4280-9B2C-84CF2EB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A9C-FD25-4169-880C-BB094A0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1F1-4C5B-45BF-B5BA-EC2829E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3D05-6A5B-4FBA-B48E-78277EFBF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E95-654E-47FA-B9D5-CF8ADB11A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eiryo"/>
              </a:rPr>
              <a:t>HAROO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:: music, football, cyb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so01038_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20720" cy="163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ffcc66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akistan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3T11:25:27Z</dcterms:modified>
  <cp:revision>16</cp:revision>
  <dc:subject/>
  <dc:title>MR. HAROON </dc:title>
</cp:coreProperties>
</file>